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6.jpeg" ContentType="image/jpeg"/>
  <Override PartName="/ppt/media/image20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5.png" ContentType="image/png"/>
  <Override PartName="/ppt/media/image27.wmf" ContentType="image/x-wmf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51C5-9BCF-417B-839A-D0E77A8C4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6F50-A24F-4D31-824B-F7C8EDC29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18F0-50E3-44ED-A280-CB6EA3641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8B48-2122-4D2E-BA40-C6AA126EE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11219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90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91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94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587520" y="12272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of SIMLEZA-A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8320" y="103932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363320"/>
            <a:ext cx="7534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scussions with stakeholders in 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040" y="2087280"/>
            <a:ext cx="1159956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s aimed at addressing bottlenecks to technology adoption &amp;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s held: 20 November 2014 &amp; 7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109728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4T08:45:29Z</dcterms:modified>
  <cp:revision>111</cp:revision>
  <dc:subject/>
  <dc:title>PowerPoint Presentation</dc:title>
</cp:coreProperties>
</file>